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CE1E-6520-45E6-865A-2AFAF0299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67A-0CBF-4F68-B0BC-E7ABB4301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E8AA-F48A-49CA-A86D-4873CF54F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DEE-7194-4D48-B6F9-3F739BCF8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685F-14F3-4C51-B206-A628A8D62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980C-9A60-4643-938A-07CCF2791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F9AD-2200-478F-BCB4-73B7BBC73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869F-7738-4982-AEB8-93B3A433B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DD05-A326-409E-8F0F-E2B0164B2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C5DE-3EE4-44D3-8DF2-C3595027A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0AF3-075F-4603-AA19-F504FDEEB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0FC2-C118-4A49-835D-970952CE5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481D-C49D-4F4C-946C-D0C520ADC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C024-397B-4F94-A7C1-F973A1B7C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98AD-511E-4D7C-A37D-7D8F60BE5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0CAD-900A-4DF9-8DDC-E65A7F45F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1233-ACA7-4E73-AC7D-E68834BA1BF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8-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 Adjusting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entries start on the next journal page following the page on which the last daily transactions for the month are recor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5070-9F52-46D4-A855-A90D0BD3041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6"/>
          <p:cNvGrpSpPr/>
          <p:nvPr/>
        </p:nvGrpSpPr>
        <p:grpSpPr>
          <a:xfrm>
            <a:off x="304920" y="1440000"/>
            <a:ext cx="5867280" cy="3228840"/>
            <a:chOff x="304920" y="1440000"/>
            <a:chExt cx="5867280" cy="3228840"/>
          </a:xfrm>
        </p:grpSpPr>
        <p:pic>
          <p:nvPicPr>
            <p:cNvPr id="100" name="Picture 23" descr="C:\Documents and Settings\mcm08@fuse.net\My Documents\2005 Business Projects\Slides for Century 21 Accounting\Green\green_jpg_files\C21_grn_0801.jpg"/>
            <p:cNvPicPr/>
            <p:nvPr/>
          </p:nvPicPr>
          <p:blipFill>
            <a:blip r:embed="rId1"/>
            <a:srcRect l="1318" t="0" r="0" b="0"/>
            <a:stretch/>
          </p:blipFill>
          <p:spPr>
            <a:xfrm>
              <a:off x="304920" y="1440000"/>
              <a:ext cx="5867280" cy="32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reeform 24"/>
            <p:cNvSpPr/>
            <p:nvPr/>
          </p:nvSpPr>
          <p:spPr>
            <a:xfrm>
              <a:off x="4648320" y="2687760"/>
              <a:ext cx="304560" cy="1371600"/>
            </a:xfrm>
            <a:custGeom>
              <a:avLst/>
              <a:gdLst/>
              <a:ahLst/>
              <a:rect l="l" t="t" r="r" b="b"/>
              <a:pathLst>
                <a:path w="192" h="864">
                  <a:moveTo>
                    <a:pt x="192" y="86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5576760" y="2251080"/>
              <a:ext cx="304920" cy="2011320"/>
            </a:xfrm>
            <a:custGeom>
              <a:avLst/>
              <a:gdLst/>
              <a:ahLst/>
              <a:rect l="l" t="t" r="r" b="b"/>
              <a:pathLst>
                <a:path w="192" h="864">
                  <a:moveTo>
                    <a:pt x="192" y="86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ING ENTRY FOR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C:\Documents and Settings\mcm08@fuse.net\My Documents\2005 Business Projects\Slides for Century 21 Accounting\Blue\ch08\C21_blue_0802.jpg"/>
          <p:cNvPicPr/>
          <p:nvPr/>
        </p:nvPicPr>
        <p:blipFill>
          <a:blip r:embed="rId2"/>
          <a:stretch/>
        </p:blipFill>
        <p:spPr>
          <a:xfrm>
            <a:off x="3048120" y="4854600"/>
            <a:ext cx="3200400" cy="131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114300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68440" y="426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2514600" y="3940200"/>
            <a:ext cx="1905120" cy="411120"/>
            <a:chOff x="2514600" y="3940200"/>
            <a:chExt cx="1905120" cy="411120"/>
          </a:xfrm>
        </p:grpSpPr>
        <p:sp>
          <p:nvSpPr>
            <p:cNvPr id="109" name="Line 15"/>
            <p:cNvSpPr/>
            <p:nvPr/>
          </p:nvSpPr>
          <p:spPr>
            <a:xfrm>
              <a:off x="2514600" y="41468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3238560" y="3940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1677960" y="4419720"/>
            <a:ext cx="3656160" cy="649080"/>
            <a:chOff x="1677960" y="4419720"/>
            <a:chExt cx="3656160" cy="649080"/>
          </a:xfrm>
        </p:grpSpPr>
        <p:sp>
          <p:nvSpPr>
            <p:cNvPr id="112" name="Freeform 17"/>
            <p:cNvSpPr/>
            <p:nvPr/>
          </p:nvSpPr>
          <p:spPr>
            <a:xfrm>
              <a:off x="1677960" y="4419720"/>
              <a:ext cx="3656160" cy="476280"/>
            </a:xfrm>
            <a:custGeom>
              <a:avLst/>
              <a:gdLst/>
              <a:ahLst/>
              <a:rect l="l" t="t" r="r" b="b"/>
              <a:pathLst>
                <a:path w="2303" h="300">
                  <a:moveTo>
                    <a:pt x="0" y="0"/>
                  </a:moveTo>
                  <a:lnTo>
                    <a:pt x="570" y="300"/>
                  </a:lnTo>
                  <a:lnTo>
                    <a:pt x="2303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363760" y="4657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Rectangle 19"/>
          <p:cNvSpPr/>
          <p:nvPr/>
        </p:nvSpPr>
        <p:spPr>
          <a:xfrm>
            <a:off x="6248520" y="34606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credited. Record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6248520" y="21844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debited. Record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6248520" y="1809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6248520" y="1447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h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AB2B-21DC-4993-AD10-545E0370F21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0"/>
          <p:cNvGrpSpPr/>
          <p:nvPr/>
        </p:nvGrpSpPr>
        <p:grpSpPr>
          <a:xfrm>
            <a:off x="228600" y="1447920"/>
            <a:ext cx="5759280" cy="3562200"/>
            <a:chOff x="228600" y="1447920"/>
            <a:chExt cx="5759280" cy="3562200"/>
          </a:xfrm>
        </p:grpSpPr>
        <p:pic>
          <p:nvPicPr>
            <p:cNvPr id="121" name="Picture 27" descr="C:\Documents and Settings\mcm08@fuse.net\My Documents\2005 Business Projects\Slides for Century 21 Accounting\Green\green_jpg_files\C21_grn_0803.jpg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57592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Freeform 28"/>
            <p:cNvSpPr/>
            <p:nvPr/>
          </p:nvSpPr>
          <p:spPr>
            <a:xfrm>
              <a:off x="4572000" y="2631960"/>
              <a:ext cx="228600" cy="1737000"/>
            </a:xfrm>
            <a:custGeom>
              <a:avLst/>
              <a:gdLst/>
              <a:ahLst/>
              <a:rect l="l" t="t" r="r" b="b"/>
              <a:pathLst>
                <a:path w="144" h="1152">
                  <a:moveTo>
                    <a:pt x="144" y="1152"/>
                  </a:move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>
              <a:off x="5410080" y="2230560"/>
              <a:ext cx="243000" cy="2341440"/>
            </a:xfrm>
            <a:custGeom>
              <a:avLst/>
              <a:gdLst/>
              <a:ahLst/>
              <a:rect l="l" t="t" r="r" b="b"/>
              <a:pathLst>
                <a:path w="144" h="1152">
                  <a:moveTo>
                    <a:pt x="144" y="1152"/>
                  </a:move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5" descr="C:\Documents and Settings\mcm08@fuse.net\My Documents\2005 Business Projects\Slides for Century 21 Accounting\Blue\ch08\C21_blue_0804.jpg"/>
          <p:cNvPicPr/>
          <p:nvPr/>
        </p:nvPicPr>
        <p:blipFill>
          <a:blip r:embed="rId2"/>
          <a:stretch/>
        </p:blipFill>
        <p:spPr>
          <a:xfrm>
            <a:off x="5486400" y="4929120"/>
            <a:ext cx="3532320" cy="1395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ING ENTRY FOR PREPAID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80880" y="431316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2436840" y="4313160"/>
            <a:ext cx="1828800" cy="411120"/>
            <a:chOff x="2436840" y="4313160"/>
            <a:chExt cx="1828800" cy="411120"/>
          </a:xfrm>
        </p:grpSpPr>
        <p:sp>
          <p:nvSpPr>
            <p:cNvPr id="129" name="Line 17"/>
            <p:cNvSpPr/>
            <p:nvPr/>
          </p:nvSpPr>
          <p:spPr>
            <a:xfrm>
              <a:off x="2436840" y="451944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3146400" y="43131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1600200" y="4836960"/>
            <a:ext cx="3656160" cy="649080"/>
            <a:chOff x="1600200" y="4836960"/>
            <a:chExt cx="3656160" cy="649080"/>
          </a:xfrm>
        </p:grpSpPr>
        <p:sp>
          <p:nvSpPr>
            <p:cNvPr id="132" name="Freeform 20"/>
            <p:cNvSpPr/>
            <p:nvPr/>
          </p:nvSpPr>
          <p:spPr>
            <a:xfrm>
              <a:off x="1600200" y="4836960"/>
              <a:ext cx="3656160" cy="476280"/>
            </a:xfrm>
            <a:custGeom>
              <a:avLst/>
              <a:gdLst/>
              <a:ahLst/>
              <a:rect l="l" t="t" r="r" b="b"/>
              <a:pathLst>
                <a:path w="2303" h="300">
                  <a:moveTo>
                    <a:pt x="0" y="0"/>
                  </a:moveTo>
                  <a:lnTo>
                    <a:pt x="570" y="300"/>
                  </a:lnTo>
                  <a:lnTo>
                    <a:pt x="2303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2286000" y="5074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Rectangle 22"/>
          <p:cNvSpPr/>
          <p:nvPr/>
        </p:nvSpPr>
        <p:spPr>
          <a:xfrm>
            <a:off x="6248520" y="30862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credited. Record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6248520" y="180972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debited. Record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6248520" y="1447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05BF-0C33-442B-8ECF-F492575E656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entries – update general ledger accounts at end of fiscal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14Z</dcterms:created>
  <dc:creator>M. C. McLaughlin</dc:creator>
  <dc:description/>
  <dc:language>en-US</dc:language>
  <cp:lastModifiedBy>bstromes</cp:lastModifiedBy>
  <dcterms:modified xsi:type="dcterms:W3CDTF">2014-11-07T16:53:49Z</dcterms:modified>
  <cp:revision>25</cp:revision>
  <dc:subject/>
  <dc:title>Lesson 8-1</dc:title>
</cp:coreProperties>
</file>